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680498"/>
        <c:axId val="14711999"/>
      </c:barChart>
      <c:catAx>
        <c:axId val="966804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11999"/>
        <c:crosses val="autoZero"/>
        <c:auto val="1"/>
        <c:lblAlgn val="ctr"/>
        <c:lblOffset val="100"/>
        <c:noMultiLvlLbl val="0"/>
      </c:catAx>
      <c:valAx>
        <c:axId val="147119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804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36B8-5FE5-4B57-900A-584E2159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2017-ED51-4812-A54F-33511373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201F-0C29-4871-A663-2285768B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421C-D348-48EC-9BB8-567AF075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D788-07C6-4852-B7B7-41F563D8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B86D-F4D4-4142-9017-3A7BF9AC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08AA-7AC0-4EEF-A34F-8993B07A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6580-EFBC-4F4C-A16B-F63D91EB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37D5-22C4-4E5E-B163-B5A85A93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1841-7AC1-4FFA-B8E3-361F8BCC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D2BE-BC1F-441B-943C-259DA034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F160-9D57-4E4E-B1BF-098A1362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79E83-C5E8-4A0D-8EB3-7AE9C5B14A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