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30694"/>
        <c:axId val="29613095"/>
      </c:barChart>
      <c:catAx>
        <c:axId val="559306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13095"/>
        <c:crosses val="autoZero"/>
        <c:auto val="1"/>
        <c:lblAlgn val="ctr"/>
        <c:lblOffset val="100"/>
        <c:noMultiLvlLbl val="0"/>
      </c:catAx>
      <c:valAx>
        <c:axId val="296130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306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3C3B-7808-474A-B1C2-A496601B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5BE9-D3AF-4C73-9D53-932091AE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9A9-F71B-4054-BF09-7AFFEAF5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DFE-251F-4436-BDF0-34F8B10D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513-9F91-4EF5-B5F3-24AA186D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1F43-DA82-4CED-BB9E-8C51A8F7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210-72F8-40F3-B123-31F36A62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464-F389-4425-BAEB-0FEDAADE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2DC-7D67-411E-9697-4BB7F1D7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34D-E9E3-4239-841D-20DB9C37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5D08-96FC-41DE-A608-4476A041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69B4-4643-4F3B-A0F3-FE555AE9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2DAE5-5B5B-429D-9BA1-734464B372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