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74514"/>
        <c:axId val="78773912"/>
      </c:barChart>
      <c:catAx>
        <c:axId val="48874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3912"/>
        <c:crosses val="autoZero"/>
        <c:auto val="1"/>
        <c:lblAlgn val="ctr"/>
        <c:lblOffset val="100"/>
        <c:noMultiLvlLbl val="0"/>
      </c:catAx>
      <c:valAx>
        <c:axId val="78773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4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8C3-537B-4D1F-B8DF-DCB52F7C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BFD-850D-4D06-9A9F-2C55846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AA6-92A4-4A6A-AB37-D46392C4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F86-1B5F-427E-B5E0-D750FFC7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5C0-56C8-4E3B-9C4C-95F8D22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34B-0139-4EC0-A895-1621477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8BD-62A8-4BE7-B7C8-A32FC6EC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DDF-26EA-43CF-98CC-658BB3F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6C1-43D0-46D2-9E70-DCB089C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EC-0AC8-4A72-9FDF-6FAB45F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2E7-CC0D-4390-B6D5-4256E08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93F-E548-40FF-B3F2-D2A41B0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4EFF6-9D83-43C3-B86D-320359A84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